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DFB-7BC9-4804-A661-26152342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590-4BB8-49ED-894D-322D434C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7BE-2F8B-4025-B5FC-DC075AD7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6C9-DDB4-4A03-98FB-757FE6A8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3BE8-2B73-45C0-89B3-786BB595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E4A1-0F20-4A7F-845C-B000426B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9139-6D94-4529-93A1-2F28549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7711-1D5D-4D87-A0E3-BE4290E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2C32-E26E-461A-9D95-2478E72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80FE-196E-4458-8B5E-180A52BE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D363-0F4A-4181-9230-30B966A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D05-AF3C-47AE-8387-D23D060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20B9-E4BB-427A-AD5B-F73E433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D2D0-C45F-4E9D-A0E7-11085B5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2031-30F0-405B-AE92-CE021F34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7D2C-5A67-4308-A3F6-EC8F8491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A200-82EF-494C-B783-65E89688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6F7A-2FFF-4663-80A9-8A493ECD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D8275-AFD1-42C5-B227-DD48FE53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0646-28B0-45CE-B4B4-C7723FE7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E7ED-062D-4B82-B255-FA4C0BF5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A4B66-1BB5-4001-BDA7-9DD5C56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86F-7EC6-49BD-94BF-B2099E48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8220-C308-4CB7-8429-B80B6739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813F-2274-426C-B5FE-8FAB1C6A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521D-F98D-44AD-9B6B-E9747396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B963-C82E-48FC-B487-3E873019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69C4-466B-482A-BE3E-F71B20EC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9B01-209D-47DE-8D1C-A6E988B9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31A96-C999-47E2-87F7-651FA656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DDD5-D26F-4AAB-9F81-E61E377A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267C-4AD1-4865-8C2A-67DC185E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9317-C750-47D2-904C-65F4F4C9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C51-4936-4407-A8BE-BE37C2A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C1B0-9D36-4EC0-AB42-C5DE764F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4C46E-2829-4009-A424-E2F769E9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3CAD-B3DD-4401-8027-C47DA2FA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AB6A-AA19-4AC9-9AE8-4CB2DDA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7B09-99F2-4EA9-A5A5-43EE1A23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A977-46F9-4782-9631-5DA6B51D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F04DA-401D-4739-AACE-32766D87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8F9C-0D1D-4A42-B6CE-BA6C9F7B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57E4F-B486-4D90-9B44-31441492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BA23A-5184-401B-BDE0-8249F86E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26B-C982-4BE8-9C4E-2C72CB1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B477-18E0-4772-A092-FDA482FB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CC35A-1C9F-4893-A112-6E8B1C53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71C0A-1592-4D87-8BC4-E53C5163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EAEC-A44E-4BE0-9D48-2BF0FBDC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ADED-5DAD-454B-8D22-B78C152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5361-3384-445D-BCD0-ED252B9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E1C3-A4AB-4FD7-824F-73FC63F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700D-4C1D-4A81-B60B-F52DBFC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5FF88-98BA-42AD-8317-7146C34F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E646D-910B-4660-B219-6F804013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310-B1B7-497B-8FA0-F86D524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53D2-1A76-4446-B232-4DFA7028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9B0-5849-4D33-AAF1-5E629884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E91-D711-4D4C-946B-1F7FE6F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B1B-2198-40F4-89E8-FFF836F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A247-8CD3-468E-8DCA-DCB28F09889E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rostokąt zaokrąglony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rostokąt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rostokąt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rostokąt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2DFD-8558-4C48-B643-286B8CF9E61F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Prostokąt zaokrąglony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Prostokąt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rostokąt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rostokąt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8D47-291D-4689-B2FF-2E083632012D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rostokąt zaokrąglony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F47F-FF9D-457D-853E-3CF6544977CF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rostokąt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rostokąt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rostokąt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77B3-C06A-488E-9032-87C13775DF31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Franklin Gothic Book"/>
              </a:rPr>
              <a:t>Historia papieru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29" name="Picture 2" descr="C:\Users\Krzysztof\AppData\Local\Microsoft\Windows\Temporary Internet Files\Content.IE5\C9O4IJX0\MC900288976[2].wmf"/>
          <p:cNvPicPr/>
          <p:nvPr/>
        </p:nvPicPr>
        <p:blipFill>
          <a:blip r:embed="rId1"/>
          <a:stretch/>
        </p:blipFill>
        <p:spPr>
          <a:xfrm>
            <a:off x="2556000" y="3429000"/>
            <a:ext cx="4471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d wynalezieniem papieru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4000" y="1196640"/>
            <a:ext cx="7488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Głównym powodem, dla którego zaczęto szukać materiałów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 których można było pisać, była potrzeba zapisywania przez ludzkość znaków i obrazów, często mających znaczenie magiczn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starszymi znakami s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alowidła naskaln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przed ok. 13 tys. lat p.n.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erwotne obrazki najstarszego pisma chińskiego przekształciły się przez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pisywanie pędzelkiem na tkaninach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lub materiałach z łyka w chińskie znaki pisarski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starsz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smo obrazk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ezopotamii zmieniło się w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smo klin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wstające przez odciskanie symboli w mokrej glinie - było ono znane we wszystkich kulturach starożytnego Wschodu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iegarbowane skóry zwierzęce z owiec, kóz i osłów potraktowane wapnem były w średniowieczu najważniejszym nośnikiem pisma w europejskim kręgu kulturowym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róbka łatwo dostępnych włókien roślinnych na materiał do pisania w formie arkuszy doprowadziła do powstania pierwszych poprzedników papieru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2" descr="C:\Users\Krzysztof\AppData\Local\Microsoft\Windows\Temporary Internet Files\Content.IE5\1F4AEUNC\MC900078753[1].wmf"/>
          <p:cNvPicPr/>
          <p:nvPr/>
        </p:nvPicPr>
        <p:blipFill>
          <a:blip r:embed="rId1"/>
          <a:stretch/>
        </p:blipFill>
        <p:spPr>
          <a:xfrm flipH="1">
            <a:off x="7236000" y="260280"/>
            <a:ext cx="1535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ierwsze technologie papiernicz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76000" y="126828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ważniejsza różnica między poprzednikami papieru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 prawdziwym papierem polega na procesie produkcyjny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raz użytych materiałach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erwszy papier przygotowywano w następujący sposób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z ubijanie i gotowanie odpowiednio przygotowanych włókien, najczęściej z różnych roślin przygotowuje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dodatkiem wody rzadką zawiesinę z włókien (tzw. zarobę), która jest następnie wybierana sitem. Osadzające się na sicie włókna tworzą arkusz papieru, który po wyschnięciu jest gotowy do użyci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posób ten wynaleziono na Dalekim Wschodzi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Jeszcze dziś robi się ten najstarszy i najprymitywniejszy rodzaj papieru w Nepalu, Bhutanie i innych krajach himalajskich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apier lany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apier czerpany. 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3" descr="C:\Users\Krzysztof\AppData\Local\Microsoft\Windows\Temporary Internet Files\Content.IE5\1JWH5UXW\MC900078625[1].wmf"/>
          <p:cNvPicPr/>
          <p:nvPr/>
        </p:nvPicPr>
        <p:blipFill>
          <a:blip r:embed="rId1"/>
          <a:stretch/>
        </p:blipFill>
        <p:spPr>
          <a:xfrm>
            <a:off x="179280" y="1197000"/>
            <a:ext cx="1114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chińsk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3640" y="1447920"/>
            <a:ext cx="77770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olebką papieru jest Daleki Wschód, Chiny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Tam już od dawna używano jedwabiu do pisania, był on jednak bardzo drogi. I dopiero odkryto , że włókna konopne - wtedy tani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 i łatwy do uzyskania materiał na odzież - przygotowane wedle tej samej metody dają dobry papier. 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Z roku 105 n.e. pochodzi pierwsza pisemna wzmianka o sztuce robienia papieru. Chiński minister Cai (Ts'ai) Lun opisał sposób produkcji papieru: z włókien łyka morwy, odpadów konopi, starych sieci rybackich i szmat przez ubijanie z dodatkiem wody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w kamiennym moździerzu robiono papkę, rozcieńczano a następnie czerpano sitem, prasowano, suszono na słońcu i w końcu wygładzano kamieniem. 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Ta ulepszona technika pozwalała na produkcję bardzo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delikatnego papieru, który zaliczał się do najlepszych. 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Początkowo mocno strzeżona sztuka wytwarzania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papieru rozszerzała się z Chin przez Koreę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do Japonii, gdzie się dalej rozwijała. 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C:\Users\Krzysztof\AppData\Local\Microsoft\Windows\Temporary Internet Files\Content.IE5\1F4AEUNC\MC900405724[1].wmf"/>
          <p:cNvPicPr/>
          <p:nvPr/>
        </p:nvPicPr>
        <p:blipFill>
          <a:blip r:embed="rId1"/>
          <a:stretch/>
        </p:blipFill>
        <p:spPr>
          <a:xfrm>
            <a:off x="5796000" y="260280"/>
            <a:ext cx="1246320" cy="1085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Krzysztof\AppData\Local\Microsoft\Windows\Temporary Internet Files\Content.IE5\C9O4IJX0\MC900404475[1].wmf"/>
          <p:cNvPicPr/>
          <p:nvPr/>
        </p:nvPicPr>
        <p:blipFill>
          <a:blip r:embed="rId2"/>
          <a:stretch/>
        </p:blipFill>
        <p:spPr>
          <a:xfrm>
            <a:off x="6750000" y="4221000"/>
            <a:ext cx="23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w Japon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268280"/>
            <a:ext cx="7489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dy popyt na papier rósł, papiernicy japońsc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szukali nowych surowców i odkryli </a:t>
            </a: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amp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rośliny miejscowe z rodziny wawrzynkowatych. Włókna 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amp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są miękkie i z natury lepkie. By je użyć do produkcji papieru trzeba było wymyślić inną technikę, ale produkt końcowy był piękny i trwały. W ten sposób powstał z podrobionego chińskiego papieru samodzielny japoński produkt - </a:t>
            </a: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ash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- papier japoński. To określenie jest używane dziś do wszystkich rodzajów ręcznie czerpanego papieru japońskiego, niekiedy również dla szczególnych rodzajów papieru produkowanego maszynowo. 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Obok użycia na księgi religijne i oficjalne dokumenty, papier służył wtedy również do prywatnej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orespondencji i poezji, i przyczyniał się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tym samym do rozwoju literatury.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Rozkwitała własna japońska kultura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olna od panujących dotąd wpływów chińskich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2" descr="C:\Users\Krzysztof\AppData\Local\Microsoft\Windows\Temporary Internet Files\Content.IE5\1F4AEUNC\MC900405832[1].wmf"/>
          <p:cNvPicPr/>
          <p:nvPr/>
        </p:nvPicPr>
        <p:blipFill>
          <a:blip r:embed="rId1"/>
          <a:stretch/>
        </p:blipFill>
        <p:spPr>
          <a:xfrm>
            <a:off x="6804000" y="189000"/>
            <a:ext cx="1757520" cy="17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Krzysztof\AppData\Local\Microsoft\Windows\Temporary Internet Files\Content.IE5\1F4AEUNC\MC900200297[1].wmf"/>
          <p:cNvPicPr/>
          <p:nvPr/>
        </p:nvPicPr>
        <p:blipFill>
          <a:blip r:embed="rId2"/>
          <a:stretch/>
        </p:blipFill>
        <p:spPr>
          <a:xfrm>
            <a:off x="6300720" y="4941720"/>
            <a:ext cx="284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apier na Zachodzi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98100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ilka wieków przed wyprodukowaniem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w miejscowych papierniach papier był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w Europie osiągalny tylko jako drogi arabsk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towar z importu. Wtedy Europejczycy używali    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rzeważnie pergaminu, ale już wkrótce papier stał się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towarem wytwarzanym na miejscu i zastąpił drogie materiały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Europejska produkcja papieru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- a tym samym trzecia epoka wytwarzania papieru - wzięła swój początek w Hiszpanii. Przez Włochy, południową Francję rozszerzało się nowe rzemiosło powoli na całą Europę. Papier znalazł miejsce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 biurach, kancelariach klasztorów i mias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 trakcie rozwoju nowych technik druku papier zyskał na znaczeniu przy upowszechnianiu książek i czasopism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bo mogły być one wydawane teraz w większych ilościach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Różnorodność papierów dała się zauważyć w XVII i XVIII wieku w Anglii, gdy coraz więcej papierni zaczęło produkować najróżnorodniejsze rodzaje papieru, kartonu i lakierowane produkty np. karty do gry ze sklejonych razem warstw papieru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Users\Krzysztof\AppData\Local\Microsoft\Windows\Temporary Internet Files\Content.IE5\1F4AEUNC\MC900326946[1].wmf"/>
          <p:cNvPicPr/>
          <p:nvPr/>
        </p:nvPicPr>
        <p:blipFill>
          <a:blip r:embed="rId1"/>
          <a:stretch/>
        </p:blipFill>
        <p:spPr>
          <a:xfrm>
            <a:off x="7020000" y="189000"/>
            <a:ext cx="1660320" cy="157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Krzysztof\AppData\Local\Microsoft\Windows\Temporary Internet Files\Content.IE5\CTDX1DGY\MC900281200[1].wmf"/>
          <p:cNvPicPr/>
          <p:nvPr/>
        </p:nvPicPr>
        <p:blipFill>
          <a:blip r:embed="rId2"/>
          <a:stretch/>
        </p:blipFill>
        <p:spPr>
          <a:xfrm>
            <a:off x="108000" y="620640"/>
            <a:ext cx="1477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współcześni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9280" y="1447560"/>
            <a:ext cx="684072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o tym jak w pierwszej połowie XIX w. zmechanizowano wszystkie dotąd ręcznie wykonywane prace, w drugiej połowie tego wieku rozwinęła się przemysłowa produkcja surowców w oddzielnych celulozowniach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Tym samym rozdzielono wytwarzanie surowców od produkcji papieru. Napęd elektryczny zastąpił parowy i wodny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Maszyny papiernicze, ich prędkości robocze a tym samym też zdolności produkcyjne są coraz większe. Ale rozwój nie ogranicza się tylko do względów ilościowych, lecz również jakościowych. Wymagania stawiane papierowi rosną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orównując dzisiejszy papier ze swymi poprzednikami widzimy ogromny wzrost jakości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C:\Users\Krzysztof\AppData\Local\Microsoft\Windows\Temporary Internet Files\Content.IE5\1JWH5UXW\MC900382576[1].jpg"/>
          <p:cNvPicPr/>
          <p:nvPr/>
        </p:nvPicPr>
        <p:blipFill>
          <a:blip r:embed="rId1"/>
          <a:stretch/>
        </p:blipFill>
        <p:spPr>
          <a:xfrm>
            <a:off x="7020000" y="3860640"/>
            <a:ext cx="1873080" cy="187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Krzysztof\AppData\Local\Microsoft\Windows\Temporary Internet Files\Content.IE5\C9O4IJX0\MC900332614[1].wmf"/>
          <p:cNvPicPr/>
          <p:nvPr/>
        </p:nvPicPr>
        <p:blipFill>
          <a:blip r:embed="rId2"/>
          <a:stretch/>
        </p:blipFill>
        <p:spPr>
          <a:xfrm>
            <a:off x="6789600" y="836640"/>
            <a:ext cx="1959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odsumowani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447560"/>
            <a:ext cx="71866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Rozwój produkcji papieru od swych początków do dnia dzisiejszego jest odbiciem wynalazczości ludzkości na drodze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d papirusu do papieru XXI w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Również w czasach nowych mediów elektronicznych, papier nie stracił na znaczeniu - wprost przeciwnie! Wymagania co do ilości i jakości będą jeszcze przez długi czas rosnąć.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4" name="Picture 2" descr="C:\Users\Marzena\AppData\Local\Microsoft\Windows\Temporary Internet Files\Content.IE5\BBL10B36\MC900196298[1].wmf"/>
          <p:cNvPicPr/>
          <p:nvPr/>
        </p:nvPicPr>
        <p:blipFill>
          <a:blip r:embed="rId1"/>
          <a:stretch/>
        </p:blipFill>
        <p:spPr>
          <a:xfrm>
            <a:off x="6875640" y="549360"/>
            <a:ext cx="165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2:23:28Z</dcterms:created>
  <dc:creator>Krzysztof</dc:creator>
  <dc:description/>
  <dc:language>en-US</dc:language>
  <cp:lastModifiedBy>Marzena</cp:lastModifiedBy>
  <dcterms:modified xsi:type="dcterms:W3CDTF">2013-08-07T16:53:47Z</dcterms:modified>
  <cp:revision>4</cp:revision>
  <dc:subject/>
  <dc:title>Historia papieru</dc:title>
</cp:coreProperties>
</file>